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E8A-ED8E-4163-9A4B-7425B952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F7C-928A-44C2-A1C7-2FC68B01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D69-A5E3-4AA3-AEE8-C4414C35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7AD-7AD1-4A24-95CC-D7DD1596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027-F82A-4FDC-8925-7EB307F4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06B-95F1-488F-9CDC-C6A95DCB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20C-36D5-4359-A728-FAED9597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3D3-2192-4F09-8EB8-F51502F0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599-2FC1-4D43-93EA-66D3B616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C42-ED46-4D7D-8D99-070D4178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8F3-A6ED-4509-A20A-44BEE0D6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00A-0367-428B-88B8-A9E841F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65A-D755-4B7E-806B-225C7E82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A9E-3D4D-423A-939A-785CBDB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E809-63F5-4CF1-AFD5-9E82DF65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528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200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1219320" y="5715000"/>
            <a:ext cx="53316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30500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609480" y="5791320"/>
            <a:ext cx="50184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19320" y="5029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143000" y="548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057400" y="5181480"/>
            <a:ext cx="58428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" descr="betsy.jpg"/>
          <p:cNvPicPr/>
          <p:nvPr/>
        </p:nvPicPr>
        <p:blipFill>
          <a:blip r:embed="rId12"/>
          <a:stretch/>
        </p:blipFill>
        <p:spPr>
          <a:xfrm>
            <a:off x="0" y="5791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4"/>
          <p:cNvSpPr/>
          <p:nvPr/>
        </p:nvSpPr>
        <p:spPr>
          <a:xfrm>
            <a:off x="3240" y="64008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8:29:19Z</dcterms:created>
  <dc:creator>FriscoISD</dc:creator>
  <dc:description/>
  <dc:language>en-US</dc:language>
  <cp:lastModifiedBy>NYCDOE</cp:lastModifiedBy>
  <dcterms:modified xsi:type="dcterms:W3CDTF">2012-12-06T18:41:06Z</dcterms:modified>
  <cp:revision>107</cp:revision>
  <dc:subject/>
  <dc:title>Profile</dc:title>
</cp:coreProperties>
</file>